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320" y="152280"/>
            <a:ext cx="8991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524640"/>
            <a:ext cx="175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Times New Roman"/>
              </a:rPr>
              <a:t>Hurley -- 12/3/98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12280" y="6477120"/>
            <a:ext cx="53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62AA-27CF-4FFE-9EF3-395494DFDA19}" type="slidenum">
              <a:rPr b="1" i="1" lang="en-US" sz="18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The Making of America II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Projec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http://sunsite.berkeley.edu/moa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ernie Hurle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ief Scientist, UC Berkeley Librar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bernie@library.berkeley.edu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Assumptions (Cont.)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spcAft>
                <a:spcPts val="3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) Therefore, we will need to develop </a:t>
            </a: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tool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hat can transparently discover, display, navigate and manipulate DL objects across distributed repositori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5) </a:t>
            </a: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These tools will require objects be standardize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4374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e: Having standardized objects may also be helpful to libraries in sharing tool development costs and in the archiving of these objec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MoA II Model and Sub-models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The MoA II Model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spcAft>
                <a:spcPts val="16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f5f5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Goal:</a:t>
            </a:r>
            <a:r>
              <a:rPr b="1" lang="en-US" sz="2400" spc="-1" strike="noStrike">
                <a:solidFill>
                  <a:srgbClr val="f5f5f5"/>
                </a:solidFill>
                <a:latin typeface="Times New Roman"/>
              </a:rPr>
              <a:t>  Suites of tools for specific audiences that integrate the discovery, display, navigation and manipulation of standardized objects across distributed repositorie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876"/>
              </a:spcAft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igital Library Service Mod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1650"/>
              </a:spcAft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Digital Object Mod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istributed Systems Architecture Mod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t yet a funded part of the MoA II Projec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MoA II -- Digital Library Service Model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1219320"/>
            <a:ext cx="5943600" cy="5105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505320"/>
            <a:ext cx="2666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4191120"/>
            <a:ext cx="35049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4280" y="259092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5f5"/>
                </a:solidFill>
                <a:latin typeface="Times New Roman"/>
              </a:rPr>
              <a:t>Serv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3581280"/>
            <a:ext cx="11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5f5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4419720"/>
            <a:ext cx="41911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5f5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5f5f5"/>
                </a:solidFill>
                <a:latin typeface="Times New Roman"/>
              </a:rPr>
              <a:t>Digital Object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f5f5"/>
                </a:solidFill>
                <a:latin typeface="Times New Roman"/>
              </a:rPr>
              <a:t>(Digital Object Sub-model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5029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5f5f5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Service Model (cont.)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1) Servic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Suites of Tools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that support a particular audienc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.g. K-12 vs. scholarly use of  a photograph collec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2) Tool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lient/Server applications that consist of 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suites of user level behaviors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that allow for the discovery, display, navigation and manipulation of standardized digital objec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Service Model (cont.)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User level behavior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functionality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haviors are what tools do for us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ary Example:  How are you organized (dated entries, accounts, contacts)?; get first/next/previous/last entry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3) Digital Library Objec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ndation of the Service Mod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ed to be standardized so tools can work on them  across distributed repositor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capsulate content and metadat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c0128"/>
                </a:solidFill>
                <a:latin typeface="Times New Roman"/>
              </a:rPr>
              <a:t>Detour  </a:t>
            </a:r>
            <a:br>
              <a:rPr sz="4000"/>
            </a:br>
            <a:r>
              <a:rPr b="1" i="1" lang="en-US" sz="4000" spc="-1" strike="noStrike">
                <a:solidFill>
                  <a:srgbClr val="fc0128"/>
                </a:solidFill>
                <a:latin typeface="Times New Roman"/>
              </a:rPr>
              <a:t>    </a:t>
            </a: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Object Oriented Design   </a:t>
            </a:r>
            <a:br>
              <a:rPr sz="4000"/>
            </a:b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lass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of Digital Objects as Neede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aries, photographs, correspondence, etc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gital Objects </a:t>
            </a: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Encapsulat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) Cont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5f5f5"/>
                </a:solidFill>
                <a:latin typeface="Times New Roman"/>
              </a:rPr>
              <a:t>b) Metho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gram code that belongs to the objec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t the next page, the 1st page of Chapter 3, et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ols use methods to provide servic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thods perform actions for tool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MoA II -- The Digital Object Model 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5f5"/>
                </a:solidFill>
                <a:latin typeface="Times New Roman"/>
              </a:rPr>
              <a:t>Digital Library Objects Encapsulate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1) Cont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gitized images (JPEG, JTIP…), text; numeric datasets, etc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2) Metadat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three types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Descriptive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intellectual description of the objec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sed to support discover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Structural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describes the object’s internal organiz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sed to support display and navig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Administrative: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agement informatio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e.g., when object was created, rights management, etc.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Object Model (cont.) 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3) Commonly Used Metho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gram code that is conceptually part of the object -- makes it easier to develop too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thods need metadata to perform ac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r level behaviors for diary objects supported by             ….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methods using structural metadat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ow are you organized?; get volume 2;  how is volume 2 organized (dated entries, accounts, contacts)?; get first/next/previous/last entry; find entries with these terms; find other entries like this one;, find entries separated by gaps over 10 days…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method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using administrative metadat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en were you created?; who created you?; what are your terms of use?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Review:  Digital Library Service Model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990720"/>
            <a:ext cx="5943600" cy="38862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2590920"/>
            <a:ext cx="243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3276720"/>
            <a:ext cx="3505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680" y="182880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5f5"/>
                </a:solidFill>
                <a:latin typeface="Times New Roman"/>
              </a:rPr>
              <a:t>Serv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2666880"/>
            <a:ext cx="11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5f5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34290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5f5"/>
                </a:solidFill>
                <a:latin typeface="Times New Roman"/>
              </a:rPr>
              <a:t>Digital Object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1080" y="41911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5f5f5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Content;  Metadata;   Method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51228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The goal of the MoA II Model</a:t>
            </a:r>
            <a:r>
              <a:rPr b="1" lang="en-US" sz="2400" spc="-1" strike="noStrike">
                <a:solidFill>
                  <a:srgbClr val="f5f5f5"/>
                </a:solidFill>
                <a:latin typeface="Times New Roman"/>
              </a:rPr>
              <a:t> is to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f5f5"/>
                </a:solidFill>
                <a:latin typeface="Times New Roman"/>
              </a:rPr>
              <a:t>develop suites of tools for specific audiences that integrate the discovery, display, navigation and manipulation of standardized objects across distributed repositories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MoA II Architecture Model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438280" y="3809880"/>
            <a:ext cx="2057400" cy="2440800"/>
            <a:chOff x="2438280" y="3809880"/>
            <a:chExt cx="2057400" cy="2440800"/>
          </a:xfrm>
        </p:grpSpPr>
        <p:sp>
          <p:nvSpPr>
            <p:cNvPr id="96" name=""/>
            <p:cNvSpPr/>
            <p:nvPr/>
          </p:nvSpPr>
          <p:spPr>
            <a:xfrm>
              <a:off x="2438280" y="3809880"/>
              <a:ext cx="1828800" cy="1904760"/>
            </a:xfrm>
            <a:prstGeom prst="can">
              <a:avLst>
                <a:gd name="adj" fmla="val 25000"/>
              </a:avLst>
            </a:prstGeom>
            <a:noFill/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38280" y="4495680"/>
              <a:ext cx="1828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5f5f5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5f5f5"/>
                  </a:solidFill>
                  <a:latin typeface="Times New Roman"/>
                </a:rPr>
                <a:t>Class Tool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f5f5"/>
                  </a:solidFill>
                  <a:latin typeface="Times New Roman"/>
                </a:rPr>
                <a:t>-Objec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90560" y="579096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f5f5"/>
                  </a:solidFill>
                  <a:latin typeface="Times New Roman"/>
                </a:rPr>
                <a:t>Reposi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7086600" y="3809880"/>
            <a:ext cx="2057400" cy="2440800"/>
            <a:chOff x="7086600" y="3809880"/>
            <a:chExt cx="2057400" cy="2440800"/>
          </a:xfrm>
        </p:grpSpPr>
        <p:sp>
          <p:nvSpPr>
            <p:cNvPr id="100" name=""/>
            <p:cNvSpPr/>
            <p:nvPr/>
          </p:nvSpPr>
          <p:spPr>
            <a:xfrm>
              <a:off x="7086600" y="3809880"/>
              <a:ext cx="1828800" cy="1904760"/>
            </a:xfrm>
            <a:prstGeom prst="can">
              <a:avLst>
                <a:gd name="adj" fmla="val 25000"/>
              </a:avLst>
            </a:prstGeom>
            <a:noFill/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86600" y="4495680"/>
              <a:ext cx="1828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5f5f5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5f5f5"/>
                  </a:solidFill>
                  <a:latin typeface="Times New Roman"/>
                </a:rPr>
                <a:t>Class Tool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f5f5"/>
                  </a:solidFill>
                  <a:latin typeface="Times New Roman"/>
                </a:rPr>
                <a:t>-Objec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38880" y="579096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f5f5"/>
                  </a:solidFill>
                  <a:latin typeface="Times New Roman"/>
                </a:rPr>
                <a:t>Reposi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62440" y="3809880"/>
            <a:ext cx="2057400" cy="2440800"/>
            <a:chOff x="4762440" y="3809880"/>
            <a:chExt cx="2057400" cy="2440800"/>
          </a:xfrm>
        </p:grpSpPr>
        <p:sp>
          <p:nvSpPr>
            <p:cNvPr id="104" name=""/>
            <p:cNvSpPr/>
            <p:nvPr/>
          </p:nvSpPr>
          <p:spPr>
            <a:xfrm>
              <a:off x="4762440" y="3809880"/>
              <a:ext cx="1828800" cy="1904760"/>
            </a:xfrm>
            <a:prstGeom prst="can">
              <a:avLst>
                <a:gd name="adj" fmla="val 25000"/>
              </a:avLst>
            </a:prstGeom>
            <a:noFill/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62440" y="4495680"/>
              <a:ext cx="1828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5f5f5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5f5f5"/>
                  </a:solidFill>
                  <a:latin typeface="Times New Roman"/>
                </a:rPr>
                <a:t>Class Tool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f5f5"/>
                  </a:solidFill>
                  <a:latin typeface="Times New Roman"/>
                </a:rPr>
                <a:t>-Objec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14720" y="579096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f5f5"/>
                  </a:solidFill>
                  <a:latin typeface="Times New Roman"/>
                </a:rPr>
                <a:t>Reposi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200400" y="1295280"/>
            <a:ext cx="2286000" cy="609480"/>
            <a:chOff x="3200400" y="1295280"/>
            <a:chExt cx="2286000" cy="609480"/>
          </a:xfrm>
        </p:grpSpPr>
        <p:sp>
          <p:nvSpPr>
            <p:cNvPr id="108" name=""/>
            <p:cNvSpPr/>
            <p:nvPr/>
          </p:nvSpPr>
          <p:spPr>
            <a:xfrm>
              <a:off x="3200400" y="1295280"/>
              <a:ext cx="2209680" cy="609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52680" y="13716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f5f5"/>
                  </a:solidFill>
                  <a:latin typeface="Times New Roman"/>
                </a:rPr>
                <a:t>Workstat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04920" y="2438280"/>
            <a:ext cx="8229240" cy="914040"/>
            <a:chOff x="304920" y="2438280"/>
            <a:chExt cx="8229240" cy="914040"/>
          </a:xfrm>
        </p:grpSpPr>
        <p:sp>
          <p:nvSpPr>
            <p:cNvPr id="111" name=""/>
            <p:cNvSpPr/>
            <p:nvPr/>
          </p:nvSpPr>
          <p:spPr>
            <a:xfrm>
              <a:off x="304920" y="2438280"/>
              <a:ext cx="8229240" cy="914040"/>
            </a:xfrm>
            <a:prstGeom prst="ellipse">
              <a:avLst/>
            </a:prstGeom>
            <a:noFill/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65200" y="2621160"/>
              <a:ext cx="230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5f5f5"/>
                  </a:solidFill>
                  <a:latin typeface="Times New Roman"/>
                </a:rPr>
                <a:t>Network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28600" y="4114800"/>
            <a:ext cx="1523880" cy="1523880"/>
            <a:chOff x="228600" y="4114800"/>
            <a:chExt cx="1523880" cy="1523880"/>
          </a:xfrm>
        </p:grpSpPr>
        <p:sp>
          <p:nvSpPr>
            <p:cNvPr id="114" name=""/>
            <p:cNvSpPr/>
            <p:nvPr/>
          </p:nvSpPr>
          <p:spPr>
            <a:xfrm>
              <a:off x="228600" y="4114800"/>
              <a:ext cx="1523880" cy="1523880"/>
            </a:xfrm>
            <a:prstGeom prst="ellipse">
              <a:avLst/>
            </a:prstGeom>
            <a:noFill/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4495680"/>
              <a:ext cx="121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f5f5"/>
                  </a:solidFill>
                  <a:latin typeface="Times New Roman"/>
                </a:rPr>
                <a:t>Union Index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553080" y="685800"/>
            <a:ext cx="25909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0128"/>
                </a:solidFill>
                <a:latin typeface="Times New Roman"/>
              </a:rPr>
              <a:t>Client/Server,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0128"/>
                </a:solidFill>
                <a:latin typeface="Times New Roman"/>
              </a:rPr>
              <a:t>Object Orient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Today’s Agenda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spcAft>
                <a:spcPts val="3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.      MoA II Project Backgroun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3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I.     Planning Phase -- MoA II White Pape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II.    Production Phase --  Progress to Dat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11360" y="101520"/>
            <a:ext cx="3454200" cy="4444920"/>
          </a:xfrm>
          <a:prstGeom prst="rect">
            <a:avLst/>
          </a:prstGeom>
          <a:noFill/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2040" y="1573200"/>
            <a:ext cx="781848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t">
            <a:noAutofit/>
          </a:bodyPr>
          <a:p>
            <a:pPr marL="307800" indent="-307800">
              <a:spcBef>
                <a:spcPts val="726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095880" y="228600"/>
            <a:ext cx="2830680" cy="2616120"/>
            <a:chOff x="6095880" y="228600"/>
            <a:chExt cx="2830680" cy="2616120"/>
          </a:xfrm>
        </p:grpSpPr>
        <p:sp>
          <p:nvSpPr>
            <p:cNvPr id="120" name=""/>
            <p:cNvSpPr/>
            <p:nvPr/>
          </p:nvSpPr>
          <p:spPr>
            <a:xfrm>
              <a:off x="6095880" y="228600"/>
              <a:ext cx="2830680" cy="2616120"/>
            </a:xfrm>
            <a:prstGeom prst="rect">
              <a:avLst/>
            </a:prstGeom>
            <a:noFill/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62640" y="1193760"/>
              <a:ext cx="2076480" cy="1451160"/>
            </a:xfrm>
            <a:prstGeom prst="ellipse">
              <a:avLst/>
            </a:prstGeom>
            <a:solidFill>
              <a:srgbClr val="618ffd"/>
            </a:solidFill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2840" bIns="42840" anchor="ctr">
              <a:noAutofit/>
            </a:bodyPr>
            <a:p>
              <a:pPr algn="ctr"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2500" spc="-1" strike="noStrike">
                  <a:solidFill>
                    <a:srgbClr val="fafd00"/>
                  </a:solidFill>
                  <a:latin typeface="Times New Roman"/>
                </a:rPr>
                <a:t>Java</a:t>
              </a:r>
              <a:endParaRPr b="0" lang="en-US" sz="25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2500" spc="-1" strike="noStrike">
                  <a:solidFill>
                    <a:srgbClr val="fafd00"/>
                  </a:solidFill>
                  <a:latin typeface="Times New Roman"/>
                </a:rPr>
                <a:t>Applet</a:t>
              </a:r>
              <a:endParaRPr b="0" lang="en-US" sz="25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2500" spc="-1" strike="noStrike">
                  <a:solidFill>
                    <a:srgbClr val="fafd00"/>
                  </a:solidFill>
                  <a:latin typeface="Times New Roman"/>
                </a:rPr>
                <a:t>(tool)</a:t>
              </a:r>
              <a:endParaRPr b="0" lang="en-US" sz="25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52280" y="384120"/>
              <a:ext cx="1915200" cy="5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2840" bIns="42840" anchor="t">
              <a:spAutoFit/>
            </a:bodyPr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i="1" lang="en-US" sz="2900" spc="-1" strike="noStrike">
                  <a:solidFill>
                    <a:srgbClr val="fafd00"/>
                  </a:solidFill>
                  <a:latin typeface="Times New Roman"/>
                </a:rPr>
                <a:t>Web Server</a:t>
              </a:r>
              <a:endParaRPr b="0" lang="en-US" sz="29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627200" y="880920"/>
            <a:ext cx="1527120" cy="1930680"/>
            <a:chOff x="1627200" y="880920"/>
            <a:chExt cx="1527120" cy="1930680"/>
          </a:xfrm>
        </p:grpSpPr>
        <p:sp>
          <p:nvSpPr>
            <p:cNvPr id="124" name=""/>
            <p:cNvSpPr/>
            <p:nvPr/>
          </p:nvSpPr>
          <p:spPr>
            <a:xfrm>
              <a:off x="1627200" y="880920"/>
              <a:ext cx="1527120" cy="1930680"/>
            </a:xfrm>
            <a:prstGeom prst="rect">
              <a:avLst/>
            </a:prstGeom>
            <a:solidFill>
              <a:srgbClr val="618ffd"/>
            </a:solidFill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82800" y="2160720"/>
              <a:ext cx="1015920" cy="4651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2840" bIns="42840" anchor="ctr">
              <a:noAutofit/>
            </a:bodyPr>
            <a:p>
              <a:pPr algn="ctr"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Times New Roman"/>
                </a:rPr>
                <a:t>Applet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20800" y="1006560"/>
              <a:ext cx="12384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2840" bIns="42840" anchor="t">
              <a:spAutoFit/>
            </a:bodyPr>
            <a:p>
              <a:pPr algn="ctr"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2500" spc="-1" strike="noStrike">
                  <a:solidFill>
                    <a:srgbClr val="fafd00"/>
                  </a:solidFill>
                  <a:latin typeface="Times New Roman"/>
                </a:rPr>
                <a:t>Web</a:t>
              </a:r>
              <a:endParaRPr b="0" lang="en-US" sz="25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2500" spc="-1" strike="noStrike">
                  <a:solidFill>
                    <a:srgbClr val="fafd00"/>
                  </a:solidFill>
                  <a:latin typeface="Times New Roman"/>
                </a:rPr>
                <a:t>Browser</a:t>
              </a:r>
              <a:endParaRPr b="0" lang="en-US" sz="25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 flipH="1">
            <a:off x="2876400" y="1981080"/>
            <a:ext cx="1695600" cy="37008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20880" y="3568680"/>
            <a:ext cx="2958840" cy="69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ORB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76360" y="2654280"/>
            <a:ext cx="0" cy="85716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31000" y="168120"/>
            <a:ext cx="1982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Worksta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35040" y="5207040"/>
            <a:ext cx="3530520" cy="1320840"/>
            <a:chOff x="635040" y="5207040"/>
            <a:chExt cx="3530520" cy="1320840"/>
          </a:xfrm>
        </p:grpSpPr>
        <p:sp>
          <p:nvSpPr>
            <p:cNvPr id="132" name=""/>
            <p:cNvSpPr/>
            <p:nvPr/>
          </p:nvSpPr>
          <p:spPr>
            <a:xfrm>
              <a:off x="635040" y="5207040"/>
              <a:ext cx="3530520" cy="1320840"/>
            </a:xfrm>
            <a:prstGeom prst="ellipse">
              <a:avLst/>
            </a:prstGeom>
            <a:noFill/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34600" y="5518080"/>
              <a:ext cx="19584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afd00"/>
                  </a:solidFill>
                  <a:latin typeface="Times New Roman"/>
                </a:rPr>
                <a:t>Internet</a:t>
              </a:r>
              <a:endParaRPr b="0" lang="en-US" sz="4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934320" y="5029200"/>
            <a:ext cx="1511280" cy="1359000"/>
          </a:xfrm>
          <a:prstGeom prst="ellipse">
            <a:avLst/>
          </a:prstGeom>
          <a:solidFill>
            <a:srgbClr val="618ffd"/>
          </a:solidFill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epositor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4319640"/>
            <a:ext cx="0" cy="88740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167360" y="4979520"/>
            <a:ext cx="658800" cy="86220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3200400"/>
            <a:ext cx="304812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An Objec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WEB Implement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8480" y="3816360"/>
            <a:ext cx="1511280" cy="1359000"/>
          </a:xfrm>
          <a:prstGeom prst="ellipse">
            <a:avLst/>
          </a:prstGeom>
          <a:solidFill>
            <a:srgbClr val="618ffd"/>
          </a:solidFill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epositor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5867280"/>
            <a:ext cx="2667240" cy="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28600"/>
            <a:ext cx="990720" cy="3276720"/>
          </a:xfrm>
          <a:prstGeom prst="ellipse">
            <a:avLst/>
          </a:prstGeom>
          <a:noFill/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538600" y="1905120"/>
            <a:ext cx="88740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MoA II Applet/CORBA Implementation 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3657600"/>
            <a:ext cx="8305920" cy="274320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5257800"/>
            <a:ext cx="1676520" cy="99072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DB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(Content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3962520"/>
            <a:ext cx="2057400" cy="838080"/>
          </a:xfrm>
          <a:prstGeom prst="ellipse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3962520"/>
            <a:ext cx="4876920" cy="990360"/>
          </a:xfrm>
          <a:prstGeom prst="ellipse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ORBA Repository Lay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(server side behavior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5334120"/>
            <a:ext cx="1447920" cy="914400"/>
          </a:xfrm>
          <a:prstGeom prst="ellipse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Un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atalo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5181480"/>
            <a:ext cx="1905120" cy="1067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f5f5"/>
                </a:solidFill>
                <a:latin typeface="Times New Roman"/>
              </a:rPr>
              <a:t>Create HTML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f5f5"/>
                </a:solidFill>
                <a:latin typeface="Times New Roman"/>
              </a:rPr>
              <a:t>page w/display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f5f5"/>
                </a:solidFill>
                <a:latin typeface="Times New Roman"/>
              </a:rPr>
              <a:t>apple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047760" y="4876920"/>
            <a:ext cx="1143000" cy="3045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86400" y="2819160"/>
            <a:ext cx="1981080" cy="11430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3124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HTTP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RBA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371600"/>
            <a:ext cx="3657600" cy="1371600"/>
          </a:xfrm>
          <a:prstGeom prst="rect">
            <a:avLst/>
          </a:prstGeom>
          <a:solidFill>
            <a:srgbClr val="618ff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1: Object I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: Object I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: Object I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1371600"/>
            <a:ext cx="3581280" cy="1447920"/>
          </a:xfrm>
          <a:prstGeom prst="rect">
            <a:avLst/>
          </a:prstGeom>
          <a:solidFill>
            <a:srgbClr val="618ff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isplay Applet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epository &amp; Object I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914400"/>
            <a:ext cx="40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) Browser: Discovery Appl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2362320"/>
            <a:ext cx="1219320" cy="380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OR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9400" y="914400"/>
            <a:ext cx="37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) Browser: Display Appl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1240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Repositor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676520" y="2743200"/>
            <a:ext cx="384120" cy="121608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2286000"/>
            <a:ext cx="1218960" cy="380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OR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200400" y="2666520"/>
            <a:ext cx="2209680" cy="12956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4952880"/>
            <a:ext cx="0" cy="3812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81680" y="4952880"/>
            <a:ext cx="685800" cy="3049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828800" y="2895120"/>
            <a:ext cx="2971800" cy="106380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4800600"/>
            <a:ext cx="1219320" cy="38088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Part 3:  Implementing the MoA II Model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lect Classes for the MoA II Testbe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inuos tone photographs,  Photo albums, Diaries,  Correspondence,  Journals,  Ledge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A II Digital Library Service Mod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) Servic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dience is scholar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) Tool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cover, display and navigate objects in selected class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havio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55840" indent="-2077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eneral Navig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55840" indent="-2077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mages: Pan , Zoom, Color comparison, etc.,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55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MoA II Model  Implementation (cont.)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) Digital Library Objects (Model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) Content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mages, text, encoded tex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) Metadat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scriptive:  MARC collection records &amp; finding aid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ructural &amp; Administrative elements defined in detai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) Method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o be determined by system design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reate a DTD to Encode (encapsulate) Metadata and Content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sfer Syntax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Part 4:  Best Practices for Imaging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neral Recommendation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anning, Digital masters &amp; derivatives, Image quality, File forma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pecific Project Recommendation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4 bit color for color imag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 bit grayscale for non-color imag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st images should be captured at 600 DPI or great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void compress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 TIFF, but record which vers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afd00"/>
                </a:solidFill>
                <a:latin typeface="Times New Roman"/>
              </a:rPr>
              <a:t>III.  Production Phase Progress to Date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MoA II --Progress to Date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White Paper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The MoA II DTD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Digitization Management Software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S Access Databa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A II Object Build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Tools:  A MoA II Compliant Viewe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1)  MoA II White Paper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viewed by the MoA II Participan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bmitted to the Digital Library Federation for publica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nd at http://sunsite.berkeley.edu/moa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 the Postscript version if possibl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2)  The MoA II DTD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rsion 1.0 is Complet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DTD, a Tutorial Explaining the DTD and an Example Encoded Document can be found at  http://sunsite.berkeley.edu/moa2/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TD has 3 Section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le Inventor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ministrative Metadata Sec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ructural Ma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2a) File Inventory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ileGrp VERSDATE='1998-09-01' ADMID='HIREZJPG  IPRIGHTS IMGSRC'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ile ID='HRJ1' MIMETYPE='image/jpg' SEQUENCE='1' SIZE='220346' CREATED='1998-09-01'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WNERID='CPR-hi.jpg'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Locat LOCTYPE='URL'&gt;    http://sunsite.berkeley.edu/~jmcdonou/CPR-hi.jpg&lt;/FLocat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/File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/FileGrp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I.  MoA II Project Background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andards Setting Projec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inuation of the Encoded Archival Description (EAD) Projec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ectronic finding aids for archival materia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A II Goal is to Create Community Standards for Digital Library Objec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luding metadata and cont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ilds on previous work in the commun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lp understand what value metadata adds to scholarly and instructional use of the objects -- and at what cos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2b) Administrative Metadata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AdminMD ID="HIREZJPG"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ileMgmt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Image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Compression&gt;JPEG&lt;/Compression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imensions X='1536' Y='1024' /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BitDepth BITS='16' /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ColorSpace&gt;RGB&lt;/ColorSpace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CLUT FResident='YES'&gt;&lt;/CLUT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Resolution&gt;200 DPI&lt;/Resolution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/Image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/FileMgmt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2c) Structural Map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StructMap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iv N='1' TYPE='Stereograph' LABEL='Secrettown. 62 miles -- altitude 3,000 feet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hotographer&amp;#39;s number: 47'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ptr FILEID='HRJ1' MIMETYPE='image/jpeg' /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ptr FILEID='LRJ1' MIMETYPE='image/jpeg' /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ptr FILEID='GIF' MIMETYPE='image/gif' /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/div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/StructMap&gt;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3)  Digitization Management Software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o Difficult to Create MoA II Objects by Han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lized That Most Metadata can be Captured During the Digitization Proces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reate Digitization Management Softwar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MoA II Databa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ject definition and data captur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ilt on MS Access databas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A II Object Build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3a) MoA II Database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t 1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ject Defini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fine objects and sub-objects to digitiz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fining the structu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t 2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age Managemen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fine parameters for master and derivativ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pturing administrative metadat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nerates file names for each imag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t 3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faul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3b) MoA II Object Builder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gram that runs through the MoA II database and creates fully encoded MoA II objec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4)  Tools -- MoA II Compliant Viewer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ava Apple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ed RMI (Remote Method Invocation) to Connect to a Distributed Repositor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ries of Method Calls to Retrieve parts of the Objec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END!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MoA II Project Background (Cont.)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ree Phas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Planning Phas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DLF funded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rite and review a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MoA II White Pap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begin the standards discussion and prepare for the testb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Production Phas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NEH Funded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e a testbed that will allow the community to experiment with and evaluate different practices for digital archival object discovery, display, navigation and manipul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semination Pha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afd00"/>
                </a:solidFill>
                <a:latin typeface="Times New Roman"/>
              </a:rPr>
              <a:t>II.  The MoA II White Paper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II.  MoA II White Paper Organization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t 1: Executive Summary and Project 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t 2: The MoA II Mod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t 3: Implementing the MoA II Mod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t 4: Best Practices for Imagi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spcAft>
                <a:spcPts val="2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ppendic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bliography, Sample DTD and object encodings, etc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Part 1: White Paper Executive Summary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Goals of the White Pape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) Start a discussion on creating “community standards” for digital library objec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iew and discussion of this paper is the 1st ste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) Create a MoA II “holistic” model to frame the discuss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y we need these standards?  What do they include?  Where do they fit into a larger National DL model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) Start an investigation of best practices for the digitization of imag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) Gather information needed for a MoA II testbe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Part 2: The MoA II Model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4" marL="205740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The goal of the MoA II Model</a:t>
            </a:r>
            <a:r>
              <a:rPr b="1" lang="en-US" sz="3200" spc="-1" strike="noStrike">
                <a:solidFill>
                  <a:srgbClr val="f5f5f5"/>
                </a:solidFill>
                <a:latin typeface="Times New Roman"/>
              </a:rPr>
              <a:t> is to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5f5f5"/>
                </a:solidFill>
                <a:latin typeface="Times New Roman"/>
              </a:rPr>
              <a:t>develop suites of tools for specific audiences that integrate the discovery, display, navigation and manipulation of standardized objects across distributed repositorie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afd00"/>
                </a:solidFill>
                <a:uFillTx/>
                <a:latin typeface="Times New Roman"/>
              </a:rPr>
              <a:t>The MoA II Model:  Assumptions</a:t>
            </a:r>
            <a:endParaRPr b="1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) A National DL will be made up of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many different class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of objec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24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brary, archival, museum, GIS, numeric datase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) These objects will populat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distributed repositori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) Scholars and students will requir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coherent and integrated acces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o these objects (i.e., distributed repositories are transparent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30T14:56:22Z</dcterms:created>
  <dc:creator>UC Berkeley Library</dc:creator>
  <dc:description/>
  <dc:language>en-US</dc:language>
  <cp:lastModifiedBy>Bernie Hurley</cp:lastModifiedBy>
  <cp:lastPrinted>1998-12-04T22:47:47Z</cp:lastPrinted>
  <dcterms:modified xsi:type="dcterms:W3CDTF">1999-01-26T19:13:00Z</dcterms:modified>
  <cp:revision>31</cp:revision>
  <dc:subject/>
  <dc:title> </dc:title>
</cp:coreProperties>
</file>